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4CD3-C836-4433-A591-86B58179E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259B-B411-4A0B-AD12-4C548DF00ED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6B96-6134-4D77-BC0D-26E692FD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22BE-BE46-4299-B099-2A7639F6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5ABE-844F-46FF-A5A0-8680AD00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43EF-28C9-4989-8D2B-EE7CACBA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7D1B-F366-4276-AF45-F86194DF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1749-A1CF-4E27-BBD7-9C533F28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C5FE-DE5A-4358-A1F1-902A16D0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4760-D42B-4A38-BF3F-C693665E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5F83-7097-4BE9-9737-302B6DC3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EB53-6916-42A1-80CC-51FE60FC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8C24-F55F-4130-9C1F-65B2F6FA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10FF-9305-4593-B857-06D42397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8981-FF7C-41C5-BE65-80EE2BAF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9039-77D1-44C4-832A-E2F96823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A5DF-7DAC-4577-83D6-C363CA88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2C4D-F058-471F-BD62-9A9ADA58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CA1D-5B81-4EE6-B925-5767CBB4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907B-4B35-478B-8A3D-D541E4A9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03C8-5594-4850-B035-76375C78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D206-0AE4-49DD-A4FC-3CBA563C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5B2E-4691-4B40-BDE5-7B1F8143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DD1B-5CFD-46E7-82AD-F97D15B9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FFAC-B085-44A5-A83B-AA2E2267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55C0-5ABC-4FB4-9E9C-16147A2E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5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222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22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23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24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25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26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27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28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29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30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1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32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33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34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35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36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37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38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39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40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41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42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43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44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45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46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47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48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49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50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51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52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53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54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55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56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57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58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59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60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61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62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63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64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65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66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67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68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69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70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71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72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73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74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75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76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77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78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79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80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81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82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83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84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85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86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87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88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89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90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91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92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93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94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95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96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97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98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99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200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201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202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203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204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205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206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207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208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209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210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211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212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213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214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215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216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217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218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219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4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6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7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E3E4-2CFC-4F3C-B13A-25EA06E26812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325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21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32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224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225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226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227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228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229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230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231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232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233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234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235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236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237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238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39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40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41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42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3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44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45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46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47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48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249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250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251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252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253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254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255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256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257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258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259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260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261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262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263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264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265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266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267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268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269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270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271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272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273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274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275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276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277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278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279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280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281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282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283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284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285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286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287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288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289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290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291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292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293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294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295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296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297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298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299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300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301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302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303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304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305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306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307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308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309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310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311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312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313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314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315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316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317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318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319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320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321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220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21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C485-BB5C-4581-9644-642D43E09FC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h/henryford106096.html" TargetMode="External"/><Relationship Id="rId2" Type="http://schemas.openxmlformats.org/officeDocument/2006/relationships/hyperlink" Target="http://www.brainyquote.com/quotes/quotes/s/stevejobs126246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37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elc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2590920" y="4952880"/>
            <a:ext cx="6400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Jack Williams, Direct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04920" y="380880"/>
            <a:ext cx="1600200" cy="1600200"/>
          </a:xfrm>
          <a:prstGeom prst="rect">
            <a:avLst/>
          </a:prstGeom>
          <a:solidFill>
            <a:srgbClr val="9f9d4f"/>
          </a:solidFill>
          <a:ln w="0">
            <a:noFill/>
          </a:ln>
          <a:effectLst>
            <a:outerShdw dist="222200" dir="8939309" blurRad="0" rotWithShape="0">
              <a:srgbClr val="003366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CA 3004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ea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njo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ursing Home MDS – June 1998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me Health OASIS – August 1999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patient Rehab Facility PAI – Januar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wing Bed MDS – Jul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ong Term Care Hospital CDS – October 201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958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otal Assessments (through 04/25/12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220,0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 ~163,5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4,7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verage Monthly Assessments Add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1,6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~1,1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38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A 3004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easu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ublic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ssessment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ealthcare Acquired Infections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du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am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ffice of Clinical Standards and 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of Medic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id and CHIP Ser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s for Disease Control and Prevention – CD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joy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arbor Pla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aryland Science Cent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altimore Aquariu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altimore Maritime Museu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ood Eat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ww.baltimore.or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spi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 means doing it right when no one is looking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1"/>
              </a:rPr>
              <a:t>Henry For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e a yardstick of quality. Some people aren't used to an environment where excellence is expected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2"/>
              </a:rPr>
              <a:t>Steve Job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5:18:08Z</dcterms:created>
  <dc:creator>IFMC Employee</dc:creator>
  <dc:description/>
  <dc:language>en-US</dc:language>
  <cp:lastModifiedBy>Charles  Padgett</cp:lastModifiedBy>
  <dcterms:modified xsi:type="dcterms:W3CDTF">2012-07-24T13:44:42Z</dcterms:modified>
  <cp:revision>65</cp:revision>
  <dc:subject/>
  <dc:title>QIES Year in Review - 2005</dc:title>
</cp:coreProperties>
</file>